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2071-17F5-4FA9-A817-9E340CDCA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and formats can evolve without affecting access to archiv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tible evolution of data model, by extensions, permits compatible evolution of format and AP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se for reading data, just recompile source against netCDF-4 libr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se for writing, just add a flag when creating a new netCDF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the childr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Arctur of OGC suggested CF-netCDF as an OGC standard in May 2009 (at an IOOS meet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 Domenico presented this at the June 2009 OGC meeting, with general agreement that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be approp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netCDF reference implementation software in many analysis and visualization packages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 least as important as the standard format for interoperability and preserv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ftware interfaces insulate programs from format c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CDF is also a foundation for other standards, e.g. the CF Conv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 standardization is slow because there are no incentives or rewards for standardizing a form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2E44-E9A1-4BBA-891C-BCF085420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209600" y="693720"/>
            <a:ext cx="4435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64080" cy="4108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ng with this commitment was an admission that keeping netCDF releases backward compatible m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m difficult, but it would really be easy compared to the amount of effort required to use Microso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 drawing tools to create this slide’s b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DA258-6CD7-4420-A06E-D022EC154B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952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53284-9429-4BAC-AB01-759D031D2E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60152-D7B4-4A84-BCC2-AB2DEBBE40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54DB4-C875-40B8-9EF5-DA4BD9C14F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17BBD-AE3E-4E32-84EF-571171E701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E9D2A-2304-4B0B-9147-F400A04477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82879-CB9E-4805-A336-1705A0352C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22FEE-96DC-4392-AA08-0116D34FF9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61716-3911-48DB-810F-FE47536BA6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E2FC4-6E63-4BF9-83A9-DA66AB1657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38CBA-01B0-4416-92DD-62D183610B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D6EF3-3C3E-4E43-BE4E-BA019C4125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05920" y="6552720"/>
            <a:ext cx="761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D6D2-5725-4B19-BC2A-12CCD6D533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tCDF and Scientific Data Durabilit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 Rew, UCAR Uni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IP Federation Summer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9-07-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319640" y="5597640"/>
            <a:ext cx="731880" cy="920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391520" y="5602320"/>
            <a:ext cx="887400" cy="911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066680" y="56008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spects of compatibilit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ort to support older interfaces and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hensive compatibility testing with every software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 archives don’t have t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program sources don’t have t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can access archived data without being aware of format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by compatibly evolving 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or grow abstractions, instead of replacing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previous data model is included in enhanced data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assic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netCDF data mod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78400" y="5587920"/>
            <a:ext cx="5383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1808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A file has variables, dimensions, and attributes.  Variables also have attributes.  Variables may share dimensions, indicating a common grid.  One dimension may be of unlimited length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92320" y="3446640"/>
            <a:ext cx="1322640" cy="1060200"/>
          </a:xfrm>
          <a:prstGeom prst="rect">
            <a:avLst/>
          </a:prstGeom>
          <a:solidFill>
            <a:srgbClr val="c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1808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Dimen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: St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ength: i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sUnlimited( 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90880" y="3754440"/>
            <a:ext cx="1320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2492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95560" y="4251240"/>
            <a:ext cx="13129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2492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16080" y="3597120"/>
            <a:ext cx="1553760" cy="1062360"/>
            <a:chOff x="316080" y="3597120"/>
            <a:chExt cx="1553760" cy="1062360"/>
          </a:xfrm>
        </p:grpSpPr>
        <p:sp>
          <p:nvSpPr>
            <p:cNvPr id="144" name=""/>
            <p:cNvSpPr/>
            <p:nvPr/>
          </p:nvSpPr>
          <p:spPr>
            <a:xfrm>
              <a:off x="318600" y="3597120"/>
              <a:ext cx="1551240" cy="1062360"/>
            </a:xfrm>
            <a:prstGeom prst="rect">
              <a:avLst/>
            </a:prstGeom>
            <a:solidFill>
              <a:srgbClr val="c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18080" tIns="0" bIns="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Attribu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name: Str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type: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</a:rPr>
                <a:t>DataTyp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values: 1D arra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6080" y="3904560"/>
              <a:ext cx="1551240" cy="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1808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300320" y="4867200"/>
            <a:ext cx="1698120" cy="1306440"/>
            <a:chOff x="1300320" y="4867200"/>
            <a:chExt cx="1698120" cy="1306440"/>
          </a:xfrm>
        </p:grpSpPr>
        <p:sp>
          <p:nvSpPr>
            <p:cNvPr id="147" name=""/>
            <p:cNvSpPr/>
            <p:nvPr/>
          </p:nvSpPr>
          <p:spPr>
            <a:xfrm>
              <a:off x="1301400" y="4867200"/>
              <a:ext cx="1697040" cy="1306440"/>
            </a:xfrm>
            <a:prstGeom prst="rect">
              <a:avLst/>
            </a:prstGeom>
            <a:solidFill>
              <a:srgbClr val="c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18080" tIns="0" bIns="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Variabl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name: Str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shape: Dimension[ ]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type: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</a:rPr>
                <a:t>DataTyp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array: read( ), …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00320" y="5165640"/>
              <a:ext cx="169452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1808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302840" y="5916960"/>
              <a:ext cx="1694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1808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128600" y="1600200"/>
            <a:ext cx="155520" cy="165240"/>
          </a:xfrm>
          <a:prstGeom prst="diamond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2492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720360" y="1682640"/>
            <a:ext cx="4129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2492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6040" y="1676520"/>
            <a:ext cx="3240" cy="1922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2492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012480" y="1600200"/>
            <a:ext cx="152280" cy="165240"/>
          </a:xfrm>
          <a:prstGeom prst="diamond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2492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60800" y="1684440"/>
            <a:ext cx="4111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2492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576240" y="1676520"/>
            <a:ext cx="4680" cy="1761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2492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17480" y="4686840"/>
            <a:ext cx="566280" cy="901080"/>
            <a:chOff x="717480" y="4686840"/>
            <a:chExt cx="566280" cy="901080"/>
          </a:xfrm>
        </p:grpSpPr>
        <p:sp>
          <p:nvSpPr>
            <p:cNvPr id="157" name=""/>
            <p:cNvSpPr/>
            <p:nvPr/>
          </p:nvSpPr>
          <p:spPr>
            <a:xfrm flipH="1" rot="10800000">
              <a:off x="1128960" y="5421960"/>
              <a:ext cx="154800" cy="165960"/>
            </a:xfrm>
            <a:prstGeom prst="diamond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2492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719640" y="5505480"/>
              <a:ext cx="41292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2492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717480" y="4686840"/>
              <a:ext cx="1080" cy="81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2492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009960" y="4511160"/>
            <a:ext cx="563040" cy="1076400"/>
            <a:chOff x="3009960" y="4511160"/>
            <a:chExt cx="563040" cy="1076400"/>
          </a:xfrm>
        </p:grpSpPr>
        <p:sp>
          <p:nvSpPr>
            <p:cNvPr id="161" name=""/>
            <p:cNvSpPr/>
            <p:nvPr/>
          </p:nvSpPr>
          <p:spPr>
            <a:xfrm rot="10800000">
              <a:off x="3009960" y="5421960"/>
              <a:ext cx="154080" cy="165600"/>
            </a:xfrm>
            <a:prstGeom prst="diamond">
              <a:avLst/>
            </a:prstGeom>
            <a:solidFill>
              <a:srgbClr val="fcff9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2492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157560" y="5503320"/>
              <a:ext cx="410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2492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3571560" y="4511160"/>
              <a:ext cx="1440" cy="99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2492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244600" y="2116080"/>
            <a:ext cx="154080" cy="169920"/>
          </a:xfrm>
          <a:prstGeom prst="diamond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2492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19480" y="2286000"/>
            <a:ext cx="2880" cy="256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2492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298520" y="1249200"/>
            <a:ext cx="1698480" cy="814680"/>
            <a:chOff x="1298520" y="1249200"/>
            <a:chExt cx="1698480" cy="814680"/>
          </a:xfrm>
        </p:grpSpPr>
        <p:sp>
          <p:nvSpPr>
            <p:cNvPr id="167" name=""/>
            <p:cNvSpPr/>
            <p:nvPr/>
          </p:nvSpPr>
          <p:spPr>
            <a:xfrm>
              <a:off x="1299600" y="1249200"/>
              <a:ext cx="1697400" cy="814680"/>
            </a:xfrm>
            <a:prstGeom prst="rect">
              <a:avLst/>
            </a:prstGeom>
            <a:solidFill>
              <a:srgbClr val="c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18080" tIns="0" bIns="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location: Filenam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create( ), open( ), …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98520" y="1548720"/>
              <a:ext cx="16948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1808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01040" y="1810800"/>
              <a:ext cx="16948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1808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4440240" y="1247760"/>
            <a:ext cx="4521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0280" tIns="0" bIns="0" anchor="t">
            <a:noAutofit/>
          </a:bodyPr>
          <a:p>
            <a:pPr algn="ctr">
              <a:lnSpc>
                <a:spcPct val="100000"/>
              </a:lnSpc>
              <a:spcBef>
                <a:spcPts val="1176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Variables and attributes have one of </a:t>
            </a:r>
            <a:r>
              <a:rPr b="1" i="1" lang="en-US" sz="1500" spc="-1" strike="noStrike">
                <a:solidFill>
                  <a:srgbClr val="a90000"/>
                </a:solidFill>
                <a:latin typeface="Times New Roman"/>
              </a:rPr>
              <a:t>six</a:t>
            </a: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 primitive data type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32360" y="1871640"/>
            <a:ext cx="1660680" cy="311040"/>
          </a:xfrm>
          <a:prstGeom prst="rect">
            <a:avLst/>
          </a:prstGeom>
          <a:solidFill>
            <a:srgbClr val="c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80280" tIns="0" bIns="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DataTyp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657520"/>
            <a:ext cx="1595520" cy="1541520"/>
          </a:xfrm>
          <a:prstGeom prst="rect">
            <a:avLst/>
          </a:prstGeom>
          <a:solidFill>
            <a:srgbClr val="c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8028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imitiveTyp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by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hort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lo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67280" y="2895480"/>
            <a:ext cx="15955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7992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86560" y="2251080"/>
            <a:ext cx="10944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7992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643800" y="2408400"/>
            <a:ext cx="32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7992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nhance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netCDF data model, for netCDF-4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16080" y="1247760"/>
            <a:ext cx="8645400" cy="5295960"/>
            <a:chOff x="316080" y="1247760"/>
            <a:chExt cx="8645400" cy="5295960"/>
          </a:xfrm>
        </p:grpSpPr>
        <p:sp>
          <p:nvSpPr>
            <p:cNvPr id="178" name=""/>
            <p:cNvSpPr/>
            <p:nvPr/>
          </p:nvSpPr>
          <p:spPr>
            <a:xfrm>
              <a:off x="3578400" y="5587920"/>
              <a:ext cx="538308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1808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Times New Roman"/>
                </a:rPr>
                <a:t>A file has </a:t>
              </a:r>
              <a:r>
                <a:rPr b="1" i="1" lang="en-US" sz="1500" spc="-1" strike="noStrike">
                  <a:solidFill>
                    <a:srgbClr val="a90000"/>
                  </a:solidFill>
                  <a:latin typeface="Times New Roman"/>
                </a:rPr>
                <a:t>a top-level unnamed group.  Each group may contain one or more named subgroups, user-defined types,</a:t>
              </a:r>
              <a:r>
                <a:rPr b="1" i="1" lang="en-US" sz="1500" spc="-1" strike="noStrike">
                  <a:solidFill>
                    <a:srgbClr val="000000"/>
                  </a:solidFill>
                  <a:latin typeface="Times New Roman"/>
                </a:rPr>
                <a:t> variables, dimensions, and attributes.  Variables also have attributes.  Variables may share dimensions, indicating a common grid.  One </a:t>
              </a:r>
              <a:r>
                <a:rPr b="1" i="1" lang="en-US" sz="1500" spc="-1" strike="noStrike">
                  <a:solidFill>
                    <a:srgbClr val="a90000"/>
                  </a:solidFill>
                  <a:latin typeface="Times New Roman"/>
                </a:rPr>
                <a:t>or more</a:t>
              </a:r>
              <a:r>
                <a:rPr b="1" i="1" lang="en-US" sz="1500" spc="-1" strike="noStrike">
                  <a:solidFill>
                    <a:srgbClr val="000000"/>
                  </a:solidFill>
                  <a:latin typeface="Times New Roman"/>
                </a:rPr>
                <a:t> dimension</a:t>
              </a:r>
              <a:r>
                <a:rPr b="1" i="1" lang="en-US" sz="1500" spc="-1" strike="noStrike">
                  <a:solidFill>
                    <a:srgbClr val="a90000"/>
                  </a:solidFill>
                  <a:latin typeface="Times New Roman"/>
                </a:rPr>
                <a:t>s</a:t>
              </a:r>
              <a:r>
                <a:rPr b="1" i="1" lang="en-US" sz="1500" spc="-1" strike="noStrike">
                  <a:solidFill>
                    <a:srgbClr val="000000"/>
                  </a:solidFill>
                  <a:latin typeface="Times New Roman"/>
                </a:rPr>
                <a:t> may be of unlimited length.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92320" y="3446640"/>
              <a:ext cx="1322640" cy="1060200"/>
            </a:xfrm>
            <a:prstGeom prst="rect">
              <a:avLst/>
            </a:prstGeom>
            <a:solidFill>
              <a:srgbClr val="c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18080" tIns="0" bIns="0" anchor="t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Dimens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name: Str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length: i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sUnlimited( 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90880" y="3754440"/>
              <a:ext cx="1320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2492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995560" y="4251240"/>
              <a:ext cx="1312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2492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316080" y="3597120"/>
              <a:ext cx="1553760" cy="1062360"/>
              <a:chOff x="316080" y="3597120"/>
              <a:chExt cx="1553760" cy="1062360"/>
            </a:xfrm>
          </p:grpSpPr>
          <p:sp>
            <p:nvSpPr>
              <p:cNvPr id="183" name=""/>
              <p:cNvSpPr/>
              <p:nvPr/>
            </p:nvSpPr>
            <p:spPr>
              <a:xfrm>
                <a:off x="318600" y="3597120"/>
                <a:ext cx="1551240" cy="1062360"/>
              </a:xfrm>
              <a:prstGeom prst="rect">
                <a:avLst/>
              </a:prstGeom>
              <a:solidFill>
                <a:srgbClr val="c0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18080" tIns="0" bIns="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30240"/>
                    <a:tab algn="l" pos="1860480"/>
                    <a:tab algn="l" pos="2790720"/>
                    <a:tab algn="l" pos="3720960"/>
                    <a:tab algn="l" pos="4651200"/>
                    <a:tab algn="l" pos="5581800"/>
                    <a:tab algn="l" pos="6512040"/>
                    <a:tab algn="l" pos="7442280"/>
                    <a:tab algn="l" pos="8372520"/>
                    <a:tab algn="l" pos="9302760"/>
                    <a:tab algn="l" pos="102330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Attribut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30240"/>
                    <a:tab algn="l" pos="1860480"/>
                    <a:tab algn="l" pos="2790720"/>
                    <a:tab algn="l" pos="3720960"/>
                    <a:tab algn="l" pos="4651200"/>
                    <a:tab algn="l" pos="5581800"/>
                    <a:tab algn="l" pos="6512040"/>
                    <a:tab algn="l" pos="7442280"/>
                    <a:tab algn="l" pos="8372520"/>
                    <a:tab algn="l" pos="9302760"/>
                    <a:tab algn="l" pos="10233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name: String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30240"/>
                    <a:tab algn="l" pos="1860480"/>
                    <a:tab algn="l" pos="2790720"/>
                    <a:tab algn="l" pos="3720960"/>
                    <a:tab algn="l" pos="4651200"/>
                    <a:tab algn="l" pos="5581800"/>
                    <a:tab algn="l" pos="6512040"/>
                    <a:tab algn="l" pos="7442280"/>
                    <a:tab algn="l" pos="8372520"/>
                    <a:tab algn="l" pos="9302760"/>
                    <a:tab algn="l" pos="10233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type: </a:t>
                </a:r>
                <a:r>
                  <a:rPr b="1" i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DataTyp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30240"/>
                    <a:tab algn="l" pos="1860480"/>
                    <a:tab algn="l" pos="2790720"/>
                    <a:tab algn="l" pos="3720960"/>
                    <a:tab algn="l" pos="4651200"/>
                    <a:tab algn="l" pos="5581800"/>
                    <a:tab algn="l" pos="6512040"/>
                    <a:tab algn="l" pos="7442280"/>
                    <a:tab algn="l" pos="8372520"/>
                    <a:tab algn="l" pos="9302760"/>
                    <a:tab algn="l" pos="10233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values: 1D array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16080" y="3904560"/>
                <a:ext cx="1551240" cy="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1808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1300320" y="4867200"/>
              <a:ext cx="1698120" cy="1306440"/>
              <a:chOff x="1300320" y="4867200"/>
              <a:chExt cx="1698120" cy="1306440"/>
            </a:xfrm>
          </p:grpSpPr>
          <p:sp>
            <p:nvSpPr>
              <p:cNvPr id="186" name=""/>
              <p:cNvSpPr/>
              <p:nvPr/>
            </p:nvSpPr>
            <p:spPr>
              <a:xfrm>
                <a:off x="1301400" y="4867200"/>
                <a:ext cx="1697040" cy="1306440"/>
              </a:xfrm>
              <a:prstGeom prst="rect">
                <a:avLst/>
              </a:prstGeom>
              <a:solidFill>
                <a:srgbClr val="c0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18080" tIns="0" bIns="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30240"/>
                    <a:tab algn="l" pos="1860480"/>
                    <a:tab algn="l" pos="2790720"/>
                    <a:tab algn="l" pos="3720960"/>
                    <a:tab algn="l" pos="4651200"/>
                    <a:tab algn="l" pos="5581800"/>
                    <a:tab algn="l" pos="6512040"/>
                    <a:tab algn="l" pos="7442280"/>
                    <a:tab algn="l" pos="8372520"/>
                    <a:tab algn="l" pos="9302760"/>
                    <a:tab algn="l" pos="102330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Variabl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30240"/>
                    <a:tab algn="l" pos="1860480"/>
                    <a:tab algn="l" pos="2790720"/>
                    <a:tab algn="l" pos="3720960"/>
                    <a:tab algn="l" pos="4651200"/>
                    <a:tab algn="l" pos="5581800"/>
                    <a:tab algn="l" pos="6512040"/>
                    <a:tab algn="l" pos="7442280"/>
                    <a:tab algn="l" pos="8372520"/>
                    <a:tab algn="l" pos="9302760"/>
                    <a:tab algn="l" pos="10233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name: String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30240"/>
                    <a:tab algn="l" pos="1860480"/>
                    <a:tab algn="l" pos="2790720"/>
                    <a:tab algn="l" pos="3720960"/>
                    <a:tab algn="l" pos="4651200"/>
                    <a:tab algn="l" pos="5581800"/>
                    <a:tab algn="l" pos="6512040"/>
                    <a:tab algn="l" pos="7442280"/>
                    <a:tab algn="l" pos="8372520"/>
                    <a:tab algn="l" pos="9302760"/>
                    <a:tab algn="l" pos="10233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hape: Dimension[ ]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30240"/>
                    <a:tab algn="l" pos="1860480"/>
                    <a:tab algn="l" pos="2790720"/>
                    <a:tab algn="l" pos="3720960"/>
                    <a:tab algn="l" pos="4651200"/>
                    <a:tab algn="l" pos="5581800"/>
                    <a:tab algn="l" pos="6512040"/>
                    <a:tab algn="l" pos="7442280"/>
                    <a:tab algn="l" pos="8372520"/>
                    <a:tab algn="l" pos="9302760"/>
                    <a:tab algn="l" pos="10233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type:   </a:t>
                </a:r>
                <a:r>
                  <a:rPr b="1" i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DataTyp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30240"/>
                    <a:tab algn="l" pos="1860480"/>
                    <a:tab algn="l" pos="2790720"/>
                    <a:tab algn="l" pos="3720960"/>
                    <a:tab algn="l" pos="4651200"/>
                    <a:tab algn="l" pos="5581800"/>
                    <a:tab algn="l" pos="6512040"/>
                    <a:tab algn="l" pos="7442280"/>
                    <a:tab algn="l" pos="8372520"/>
                    <a:tab algn="l" pos="9302760"/>
                    <a:tab algn="l" pos="10233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rray: read( ), …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300320" y="5165640"/>
                <a:ext cx="169452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1808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02840" y="5916960"/>
                <a:ext cx="16941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1808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1300320" y="2476440"/>
              <a:ext cx="1695240" cy="568440"/>
            </a:xfrm>
            <a:prstGeom prst="rect">
              <a:avLst/>
            </a:prstGeom>
            <a:solidFill>
              <a:srgbClr val="c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18080" tIns="0" bIns="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1" i="1" lang="en-US" sz="1500" spc="-1" strike="noStrike">
                  <a:solidFill>
                    <a:srgbClr val="a90000"/>
                  </a:solidFill>
                  <a:latin typeface="Times New Roman"/>
                </a:rPr>
                <a:t>G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i="1" lang="en-US" sz="1300" spc="-1" strike="noStrike">
                  <a:solidFill>
                    <a:srgbClr val="a90000"/>
                  </a:solidFill>
                  <a:latin typeface="Times New Roman"/>
                </a:rPr>
                <a:t>  </a:t>
              </a:r>
              <a:r>
                <a:rPr b="0" i="1" lang="en-US" sz="1300" spc="-1" strike="noStrike">
                  <a:solidFill>
                    <a:srgbClr val="a90000"/>
                  </a:solidFill>
                  <a:latin typeface="Times New Roman"/>
                </a:rPr>
                <a:t>name: Str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98520" y="2776680"/>
              <a:ext cx="1693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2492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717480" y="2697120"/>
              <a:ext cx="566280" cy="901440"/>
              <a:chOff x="717480" y="2697120"/>
              <a:chExt cx="566280" cy="901440"/>
            </a:xfrm>
          </p:grpSpPr>
          <p:sp>
            <p:nvSpPr>
              <p:cNvPr id="192" name=""/>
              <p:cNvSpPr/>
              <p:nvPr/>
            </p:nvSpPr>
            <p:spPr>
              <a:xfrm>
                <a:off x="1128960" y="2697120"/>
                <a:ext cx="154800" cy="165600"/>
              </a:xfrm>
              <a:prstGeom prst="diamond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2492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719640" y="2779560"/>
                <a:ext cx="4129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2492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17480" y="2778480"/>
                <a:ext cx="1080" cy="820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2492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 flipH="1">
              <a:off x="3012480" y="2840040"/>
              <a:ext cx="152280" cy="165240"/>
            </a:xfrm>
            <a:prstGeom prst="diamond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2492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60800" y="2924280"/>
              <a:ext cx="4111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2492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3576240" y="2914560"/>
              <a:ext cx="1800" cy="52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2492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717480" y="4686840"/>
              <a:ext cx="566280" cy="901080"/>
              <a:chOff x="717480" y="4686840"/>
              <a:chExt cx="566280" cy="901080"/>
            </a:xfrm>
          </p:grpSpPr>
          <p:sp>
            <p:nvSpPr>
              <p:cNvPr id="199" name=""/>
              <p:cNvSpPr/>
              <p:nvPr/>
            </p:nvSpPr>
            <p:spPr>
              <a:xfrm flipH="1" rot="10800000">
                <a:off x="1128960" y="5421960"/>
                <a:ext cx="154800" cy="165960"/>
              </a:xfrm>
              <a:prstGeom prst="diamond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2492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flipV="1">
                <a:off x="719640" y="5505480"/>
                <a:ext cx="41292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2492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717480" y="4686840"/>
                <a:ext cx="1080" cy="819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2492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009960" y="4511160"/>
              <a:ext cx="563040" cy="1076400"/>
              <a:chOff x="3009960" y="4511160"/>
              <a:chExt cx="563040" cy="1076400"/>
            </a:xfrm>
          </p:grpSpPr>
          <p:sp>
            <p:nvSpPr>
              <p:cNvPr id="203" name=""/>
              <p:cNvSpPr/>
              <p:nvPr/>
            </p:nvSpPr>
            <p:spPr>
              <a:xfrm rot="10800000">
                <a:off x="3009960" y="5421960"/>
                <a:ext cx="154080" cy="165600"/>
              </a:xfrm>
              <a:prstGeom prst="diamond">
                <a:avLst/>
              </a:prstGeom>
              <a:solidFill>
                <a:srgbClr val="fcff91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2492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3157560" y="5503320"/>
                <a:ext cx="4107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2492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 flipV="1">
                <a:off x="3571560" y="4511160"/>
                <a:ext cx="1440" cy="9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2492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2244600" y="3044880"/>
              <a:ext cx="154080" cy="169920"/>
            </a:xfrm>
            <a:prstGeom prst="diamond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2492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20920" y="3179880"/>
              <a:ext cx="1440" cy="167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2492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1298520" y="1249200"/>
              <a:ext cx="1698480" cy="814680"/>
              <a:chOff x="1298520" y="1249200"/>
              <a:chExt cx="1698480" cy="814680"/>
            </a:xfrm>
          </p:grpSpPr>
          <p:sp>
            <p:nvSpPr>
              <p:cNvPr id="209" name=""/>
              <p:cNvSpPr/>
              <p:nvPr/>
            </p:nvSpPr>
            <p:spPr>
              <a:xfrm>
                <a:off x="1299600" y="1249200"/>
                <a:ext cx="1697400" cy="814680"/>
              </a:xfrm>
              <a:prstGeom prst="rect">
                <a:avLst/>
              </a:prstGeom>
              <a:solidFill>
                <a:srgbClr val="c0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18080" tIns="0" bIns="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30240"/>
                    <a:tab algn="l" pos="1860480"/>
                    <a:tab algn="l" pos="2790720"/>
                    <a:tab algn="l" pos="3720960"/>
                    <a:tab algn="l" pos="4651200"/>
                    <a:tab algn="l" pos="5581800"/>
                    <a:tab algn="l" pos="6512040"/>
                    <a:tab algn="l" pos="7442280"/>
                    <a:tab algn="l" pos="8372520"/>
                    <a:tab algn="l" pos="9302760"/>
                    <a:tab algn="l" pos="102330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Fil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30240"/>
                    <a:tab algn="l" pos="1860480"/>
                    <a:tab algn="l" pos="2790720"/>
                    <a:tab algn="l" pos="3720960"/>
                    <a:tab algn="l" pos="4651200"/>
                    <a:tab algn="l" pos="5581800"/>
                    <a:tab algn="l" pos="6512040"/>
                    <a:tab algn="l" pos="7442280"/>
                    <a:tab algn="l" pos="8372520"/>
                    <a:tab algn="l" pos="9302760"/>
                    <a:tab algn="l" pos="10233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location: Filenam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30240"/>
                    <a:tab algn="l" pos="1860480"/>
                    <a:tab algn="l" pos="2790720"/>
                    <a:tab algn="l" pos="3720960"/>
                    <a:tab algn="l" pos="4651200"/>
                    <a:tab algn="l" pos="5581800"/>
                    <a:tab algn="l" pos="6512040"/>
                    <a:tab algn="l" pos="7442280"/>
                    <a:tab algn="l" pos="8372520"/>
                    <a:tab algn="l" pos="9302760"/>
                    <a:tab algn="l" pos="10233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create( ), open( ), …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298520" y="1548720"/>
                <a:ext cx="16948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1808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301040" y="1810800"/>
                <a:ext cx="16948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1808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2197080" y="2451240"/>
              <a:ext cx="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2492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1442880" y="3044880"/>
              <a:ext cx="504720" cy="350640"/>
              <a:chOff x="1442880" y="3044880"/>
              <a:chExt cx="504720" cy="350640"/>
            </a:xfrm>
          </p:grpSpPr>
          <p:sp>
            <p:nvSpPr>
              <p:cNvPr id="214" name=""/>
              <p:cNvSpPr/>
              <p:nvPr/>
            </p:nvSpPr>
            <p:spPr>
              <a:xfrm flipH="1">
                <a:off x="1792800" y="3044880"/>
                <a:ext cx="154440" cy="165600"/>
              </a:xfrm>
              <a:prstGeom prst="diamond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2492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1870560" y="3175560"/>
                <a:ext cx="1080" cy="219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2492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1443960" y="3044880"/>
                <a:ext cx="1080" cy="350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2492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1442880" y="3385080"/>
                <a:ext cx="426240" cy="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2492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4440240" y="1247760"/>
              <a:ext cx="452124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8028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76"/>
                </a:spcBef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Times New Roman"/>
                </a:rPr>
                <a:t>Variables and attributes have one of </a:t>
              </a:r>
              <a:r>
                <a:rPr b="1" i="1" lang="en-US" sz="1500" spc="-1" strike="noStrike">
                  <a:solidFill>
                    <a:srgbClr val="a90000"/>
                  </a:solidFill>
                  <a:latin typeface="Times New Roman"/>
                </a:rPr>
                <a:t>twelve</a:t>
              </a:r>
              <a:r>
                <a:rPr b="1" i="1" lang="en-US" sz="1500" spc="-1" strike="noStrike">
                  <a:solidFill>
                    <a:srgbClr val="000000"/>
                  </a:solidFill>
                  <a:latin typeface="Times New Roman"/>
                </a:rPr>
                <a:t> primitive data types </a:t>
              </a:r>
              <a:r>
                <a:rPr b="1" i="1" lang="en-US" sz="1500" spc="-1" strike="noStrike">
                  <a:solidFill>
                    <a:srgbClr val="a90000"/>
                  </a:solidFill>
                  <a:latin typeface="Times New Roman"/>
                </a:rPr>
                <a:t>or one of four user-defined types</a:t>
              </a:r>
              <a:r>
                <a:rPr b="1" i="1" lang="en-US" sz="15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4902120" y="1871640"/>
              <a:ext cx="3517560" cy="3489120"/>
              <a:chOff x="4902120" y="1871640"/>
              <a:chExt cx="3517560" cy="3489120"/>
            </a:xfrm>
          </p:grpSpPr>
          <p:sp>
            <p:nvSpPr>
              <p:cNvPr id="220" name=""/>
              <p:cNvSpPr/>
              <p:nvPr/>
            </p:nvSpPr>
            <p:spPr>
              <a:xfrm>
                <a:off x="5831640" y="1871640"/>
                <a:ext cx="1661400" cy="310680"/>
              </a:xfrm>
              <a:prstGeom prst="rect">
                <a:avLst/>
              </a:prstGeom>
              <a:solidFill>
                <a:srgbClr val="c0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80280" tIns="0" bIns="0" anchor="t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30240"/>
                    <a:tab algn="l" pos="1860480"/>
                    <a:tab algn="l" pos="2790720"/>
                    <a:tab algn="l" pos="3720960"/>
                    <a:tab algn="l" pos="4651200"/>
                    <a:tab algn="l" pos="5581800"/>
                    <a:tab algn="l" pos="6512040"/>
                    <a:tab algn="l" pos="7442280"/>
                    <a:tab algn="l" pos="8372520"/>
                    <a:tab algn="l" pos="9302760"/>
                    <a:tab algn="l" pos="102330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DataTyp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6823080" y="2573640"/>
                <a:ext cx="1596600" cy="2787120"/>
                <a:chOff x="6823080" y="2573640"/>
                <a:chExt cx="1596600" cy="278712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6824160" y="2573640"/>
                  <a:ext cx="1595520" cy="2787120"/>
                </a:xfrm>
                <a:prstGeom prst="rect">
                  <a:avLst/>
                </a:prstGeom>
                <a:solidFill>
                  <a:srgbClr val="c0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8028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30240"/>
                      <a:tab algn="l" pos="1860480"/>
                      <a:tab algn="l" pos="2790720"/>
                      <a:tab algn="l" pos="3720960"/>
                      <a:tab algn="l" pos="4651200"/>
                      <a:tab algn="l" pos="5581800"/>
                      <a:tab algn="l" pos="6512040"/>
                      <a:tab algn="l" pos="7442280"/>
                      <a:tab algn="l" pos="8372520"/>
                      <a:tab algn="l" pos="9302760"/>
                      <a:tab algn="l" pos="102330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PrimitiveType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30240"/>
                      <a:tab algn="l" pos="1860480"/>
                      <a:tab algn="l" pos="2790720"/>
                      <a:tab algn="l" pos="3720960"/>
                      <a:tab algn="l" pos="4651200"/>
                      <a:tab algn="l" pos="5581800"/>
                      <a:tab algn="l" pos="6512040"/>
                      <a:tab algn="l" pos="7442280"/>
                      <a:tab algn="l" pos="8372520"/>
                      <a:tab algn="l" pos="9302760"/>
                      <a:tab algn="l" pos="102330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char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30240"/>
                      <a:tab algn="l" pos="1860480"/>
                      <a:tab algn="l" pos="2790720"/>
                      <a:tab algn="l" pos="3720960"/>
                      <a:tab algn="l" pos="4651200"/>
                      <a:tab algn="l" pos="5581800"/>
                      <a:tab algn="l" pos="6512040"/>
                      <a:tab algn="l" pos="7442280"/>
                      <a:tab algn="l" pos="8372520"/>
                      <a:tab algn="l" pos="9302760"/>
                      <a:tab algn="l" pos="102330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byte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30240"/>
                      <a:tab algn="l" pos="1860480"/>
                      <a:tab algn="l" pos="2790720"/>
                      <a:tab algn="l" pos="3720960"/>
                      <a:tab algn="l" pos="4651200"/>
                      <a:tab algn="l" pos="5581800"/>
                      <a:tab algn="l" pos="6512040"/>
                      <a:tab algn="l" pos="7442280"/>
                      <a:tab algn="l" pos="8372520"/>
                      <a:tab algn="l" pos="9302760"/>
                      <a:tab algn="l" pos="102330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short     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30240"/>
                      <a:tab algn="l" pos="1860480"/>
                      <a:tab algn="l" pos="2790720"/>
                      <a:tab algn="l" pos="3720960"/>
                      <a:tab algn="l" pos="4651200"/>
                      <a:tab algn="l" pos="5581800"/>
                      <a:tab algn="l" pos="6512040"/>
                      <a:tab algn="l" pos="7442280"/>
                      <a:tab algn="l" pos="8372520"/>
                      <a:tab algn="l" pos="9302760"/>
                      <a:tab algn="l" pos="102330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int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30240"/>
                      <a:tab algn="l" pos="1860480"/>
                      <a:tab algn="l" pos="2790720"/>
                      <a:tab algn="l" pos="3720960"/>
                      <a:tab algn="l" pos="4651200"/>
                      <a:tab algn="l" pos="5581800"/>
                      <a:tab algn="l" pos="6512040"/>
                      <a:tab algn="l" pos="7442280"/>
                      <a:tab algn="l" pos="8372520"/>
                      <a:tab algn="l" pos="9302760"/>
                      <a:tab algn="l" pos="10233000"/>
                    </a:tabLst>
                  </a:pPr>
                  <a:r>
                    <a:rPr b="0" i="1" lang="en-US" sz="1300" spc="-1" strike="noStrike">
                      <a:solidFill>
                        <a:srgbClr val="a90000"/>
                      </a:solidFill>
                      <a:latin typeface="Times New Roman"/>
                    </a:rPr>
                    <a:t>int64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30240"/>
                      <a:tab algn="l" pos="1860480"/>
                      <a:tab algn="l" pos="2790720"/>
                      <a:tab algn="l" pos="3720960"/>
                      <a:tab algn="l" pos="4651200"/>
                      <a:tab algn="l" pos="5581800"/>
                      <a:tab algn="l" pos="6512040"/>
                      <a:tab algn="l" pos="7442280"/>
                      <a:tab algn="l" pos="8372520"/>
                      <a:tab algn="l" pos="9302760"/>
                      <a:tab algn="l" pos="102330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float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30240"/>
                      <a:tab algn="l" pos="1860480"/>
                      <a:tab algn="l" pos="2790720"/>
                      <a:tab algn="l" pos="3720960"/>
                      <a:tab algn="l" pos="4651200"/>
                      <a:tab algn="l" pos="5581800"/>
                      <a:tab algn="l" pos="6512040"/>
                      <a:tab algn="l" pos="7442280"/>
                      <a:tab algn="l" pos="8372520"/>
                      <a:tab algn="l" pos="9302760"/>
                      <a:tab algn="l" pos="102330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double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30240"/>
                      <a:tab algn="l" pos="1860480"/>
                      <a:tab algn="l" pos="2790720"/>
                      <a:tab algn="l" pos="3720960"/>
                      <a:tab algn="l" pos="4651200"/>
                      <a:tab algn="l" pos="5581800"/>
                      <a:tab algn="l" pos="6512040"/>
                      <a:tab algn="l" pos="7442280"/>
                      <a:tab algn="l" pos="8372520"/>
                      <a:tab algn="l" pos="9302760"/>
                      <a:tab algn="l" pos="10233000"/>
                    </a:tabLst>
                  </a:pPr>
                  <a:r>
                    <a:rPr b="0" i="1" lang="en-US" sz="1300" spc="-1" strike="noStrike">
                      <a:solidFill>
                        <a:srgbClr val="a90000"/>
                      </a:solidFill>
                      <a:latin typeface="Times New Roman"/>
                    </a:rPr>
                    <a:t>unsigned byte     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30240"/>
                      <a:tab algn="l" pos="1860480"/>
                      <a:tab algn="l" pos="2790720"/>
                      <a:tab algn="l" pos="3720960"/>
                      <a:tab algn="l" pos="4651200"/>
                      <a:tab algn="l" pos="5581800"/>
                      <a:tab algn="l" pos="6512040"/>
                      <a:tab algn="l" pos="7442280"/>
                      <a:tab algn="l" pos="8372520"/>
                      <a:tab algn="l" pos="9302760"/>
                      <a:tab algn="l" pos="10233000"/>
                    </a:tabLst>
                  </a:pPr>
                  <a:r>
                    <a:rPr b="0" i="1" lang="en-US" sz="1300" spc="-1" strike="noStrike">
                      <a:solidFill>
                        <a:srgbClr val="a90000"/>
                      </a:solidFill>
                      <a:latin typeface="Times New Roman"/>
                    </a:rPr>
                    <a:t>unsigned short     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30240"/>
                      <a:tab algn="l" pos="1860480"/>
                      <a:tab algn="l" pos="2790720"/>
                      <a:tab algn="l" pos="3720960"/>
                      <a:tab algn="l" pos="4651200"/>
                      <a:tab algn="l" pos="5581800"/>
                      <a:tab algn="l" pos="6512040"/>
                      <a:tab algn="l" pos="7442280"/>
                      <a:tab algn="l" pos="8372520"/>
                      <a:tab algn="l" pos="9302760"/>
                      <a:tab algn="l" pos="10233000"/>
                    </a:tabLst>
                  </a:pPr>
                  <a:r>
                    <a:rPr b="0" i="1" lang="en-US" sz="1300" spc="-1" strike="noStrike">
                      <a:solidFill>
                        <a:srgbClr val="a90000"/>
                      </a:solidFill>
                      <a:latin typeface="Times New Roman"/>
                    </a:rPr>
                    <a:t>unsigned int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30240"/>
                      <a:tab algn="l" pos="1860480"/>
                      <a:tab algn="l" pos="2790720"/>
                      <a:tab algn="l" pos="3720960"/>
                      <a:tab algn="l" pos="4651200"/>
                      <a:tab algn="l" pos="5581800"/>
                      <a:tab algn="l" pos="6512040"/>
                      <a:tab algn="l" pos="7442280"/>
                      <a:tab algn="l" pos="8372520"/>
                      <a:tab algn="l" pos="9302760"/>
                      <a:tab algn="l" pos="10233000"/>
                    </a:tabLst>
                  </a:pPr>
                  <a:r>
                    <a:rPr b="0" i="1" lang="en-US" sz="1300" spc="-1" strike="noStrike">
                      <a:solidFill>
                        <a:srgbClr val="a90000"/>
                      </a:solidFill>
                      <a:latin typeface="Times New Roman"/>
                    </a:rPr>
                    <a:t>unsigned int64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30240"/>
                      <a:tab algn="l" pos="1860480"/>
                      <a:tab algn="l" pos="2790720"/>
                      <a:tab algn="l" pos="3720960"/>
                      <a:tab algn="l" pos="4651200"/>
                      <a:tab algn="l" pos="5581800"/>
                      <a:tab algn="l" pos="6512040"/>
                      <a:tab algn="l" pos="7442280"/>
                      <a:tab algn="l" pos="8372520"/>
                      <a:tab algn="l" pos="9302760"/>
                      <a:tab algn="l" pos="10233000"/>
                    </a:tabLst>
                  </a:pPr>
                  <a:r>
                    <a:rPr b="0" i="1" lang="en-US" sz="1300" spc="-1" strike="noStrike">
                      <a:solidFill>
                        <a:srgbClr val="a90000"/>
                      </a:solidFill>
                      <a:latin typeface="Times New Roman"/>
                    </a:rPr>
                    <a:t>string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823080" y="2820960"/>
                  <a:ext cx="1595520" cy="1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7992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4903200" y="2572560"/>
                <a:ext cx="1661040" cy="568080"/>
                <a:chOff x="4903200" y="2572560"/>
                <a:chExt cx="1661040" cy="56808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4904280" y="2572560"/>
                  <a:ext cx="1659960" cy="568080"/>
                </a:xfrm>
                <a:prstGeom prst="rect">
                  <a:avLst/>
                </a:prstGeom>
                <a:solidFill>
                  <a:srgbClr val="c0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8028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30240"/>
                      <a:tab algn="l" pos="1860480"/>
                      <a:tab algn="l" pos="2790720"/>
                      <a:tab algn="l" pos="3720960"/>
                      <a:tab algn="l" pos="4651200"/>
                      <a:tab algn="l" pos="5581800"/>
                      <a:tab algn="l" pos="6512040"/>
                      <a:tab algn="l" pos="7442280"/>
                      <a:tab algn="l" pos="8372520"/>
                      <a:tab algn="l" pos="9302760"/>
                      <a:tab algn="l" pos="10233000"/>
                    </a:tabLst>
                  </a:pPr>
                  <a:r>
                    <a:rPr b="1" i="1" lang="en-US" sz="1500" spc="-1" strike="noStrike">
                      <a:solidFill>
                        <a:srgbClr val="a90000"/>
                      </a:solidFill>
                      <a:latin typeface="Times New Roman"/>
                    </a:rPr>
                    <a:t>UserDefinedType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60000"/>
                    </a:lnSpc>
                    <a:tabLst>
                      <a:tab algn="l" pos="0"/>
                      <a:tab algn="l" pos="930240"/>
                      <a:tab algn="l" pos="1860480"/>
                      <a:tab algn="l" pos="2790720"/>
                      <a:tab algn="l" pos="3720960"/>
                      <a:tab algn="l" pos="4651200"/>
                      <a:tab algn="l" pos="5581800"/>
                      <a:tab algn="l" pos="6512040"/>
                      <a:tab algn="l" pos="7442280"/>
                      <a:tab algn="l" pos="8372520"/>
                      <a:tab algn="l" pos="9302760"/>
                      <a:tab algn="l" pos="10233000"/>
                    </a:tabLst>
                  </a:pPr>
                  <a:r>
                    <a:rPr b="0" i="1" lang="en-US" sz="1300" spc="-1" strike="noStrike">
                      <a:solidFill>
                        <a:srgbClr val="a90000"/>
                      </a:solidFill>
                      <a:latin typeface="Times New Roman"/>
                    </a:rPr>
                    <a:t>    </a:t>
                  </a:r>
                  <a:r>
                    <a:rPr b="0" i="1" lang="en-US" sz="1300" spc="-1" strike="noStrike">
                      <a:solidFill>
                        <a:srgbClr val="a90000"/>
                      </a:solidFill>
                      <a:latin typeface="Times New Roman"/>
                    </a:rPr>
                    <a:t>typename: String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903200" y="2868840"/>
                  <a:ext cx="1654560" cy="1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7992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6087240" y="2255040"/>
                <a:ext cx="126720" cy="312120"/>
                <a:chOff x="6087240" y="2255040"/>
                <a:chExt cx="126720" cy="31212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6087240" y="2255040"/>
                  <a:ext cx="126720" cy="152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7992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153840" y="2411640"/>
                  <a:ext cx="1080" cy="155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7992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4902120" y="3173400"/>
                <a:ext cx="1779120" cy="2179440"/>
                <a:chOff x="4902120" y="3173400"/>
                <a:chExt cx="1779120" cy="21794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4906080" y="4490280"/>
                  <a:ext cx="1382760" cy="309600"/>
                </a:xfrm>
                <a:prstGeom prst="rect">
                  <a:avLst/>
                </a:prstGeom>
                <a:solidFill>
                  <a:srgbClr val="c0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8028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30240"/>
                      <a:tab algn="l" pos="1860480"/>
                      <a:tab algn="l" pos="2790720"/>
                      <a:tab algn="l" pos="3720960"/>
                      <a:tab algn="l" pos="4651200"/>
                      <a:tab algn="l" pos="5581800"/>
                      <a:tab algn="l" pos="6512040"/>
                      <a:tab algn="l" pos="7442280"/>
                      <a:tab algn="l" pos="8372520"/>
                      <a:tab algn="l" pos="9302760"/>
                      <a:tab algn="l" pos="10233000"/>
                    </a:tabLst>
                  </a:pPr>
                  <a:r>
                    <a:rPr b="1" i="1" lang="en-US" sz="1300" spc="-1" strike="noStrike">
                      <a:solidFill>
                        <a:srgbClr val="a90000"/>
                      </a:solidFill>
                      <a:latin typeface="Times New Roman"/>
                    </a:rPr>
                    <a:t>Compound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902120" y="5042880"/>
                  <a:ext cx="1779120" cy="309960"/>
                </a:xfrm>
                <a:prstGeom prst="rect">
                  <a:avLst/>
                </a:prstGeom>
                <a:solidFill>
                  <a:srgbClr val="c0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8028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30240"/>
                      <a:tab algn="l" pos="1860480"/>
                      <a:tab algn="l" pos="2790720"/>
                      <a:tab algn="l" pos="3720960"/>
                      <a:tab algn="l" pos="4651200"/>
                      <a:tab algn="l" pos="5581800"/>
                      <a:tab algn="l" pos="6512040"/>
                      <a:tab algn="l" pos="7442280"/>
                      <a:tab algn="l" pos="8372520"/>
                      <a:tab algn="l" pos="9302760"/>
                      <a:tab algn="l" pos="10233000"/>
                    </a:tabLst>
                  </a:pPr>
                  <a:r>
                    <a:rPr b="1" i="1" lang="en-US" sz="1300" spc="-1" strike="noStrike">
                      <a:solidFill>
                        <a:srgbClr val="a90000"/>
                      </a:solidFill>
                      <a:latin typeface="Times New Roman"/>
                    </a:rPr>
                    <a:t>VariableLength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906080" y="3385800"/>
                  <a:ext cx="757800" cy="309600"/>
                </a:xfrm>
                <a:prstGeom prst="rect">
                  <a:avLst/>
                </a:prstGeom>
                <a:solidFill>
                  <a:srgbClr val="c0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8028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30240"/>
                      <a:tab algn="l" pos="1860480"/>
                      <a:tab algn="l" pos="2790720"/>
                      <a:tab algn="l" pos="3720960"/>
                      <a:tab algn="l" pos="4651200"/>
                      <a:tab algn="l" pos="5581800"/>
                      <a:tab algn="l" pos="6512040"/>
                      <a:tab algn="l" pos="7442280"/>
                      <a:tab algn="l" pos="8372520"/>
                      <a:tab algn="l" pos="9302760"/>
                      <a:tab algn="l" pos="10233000"/>
                    </a:tabLst>
                  </a:pPr>
                  <a:r>
                    <a:rPr b="1" i="1" lang="en-US" sz="1300" spc="-1" strike="noStrike">
                      <a:solidFill>
                        <a:srgbClr val="a90000"/>
                      </a:solidFill>
                      <a:latin typeface="Times New Roman"/>
                    </a:rPr>
                    <a:t>Enum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902120" y="3938760"/>
                  <a:ext cx="1069920" cy="309600"/>
                </a:xfrm>
                <a:prstGeom prst="rect">
                  <a:avLst/>
                </a:prstGeom>
                <a:solidFill>
                  <a:srgbClr val="c0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8028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30240"/>
                      <a:tab algn="l" pos="1860480"/>
                      <a:tab algn="l" pos="2790720"/>
                      <a:tab algn="l" pos="3720960"/>
                      <a:tab algn="l" pos="4651200"/>
                      <a:tab algn="l" pos="5581800"/>
                      <a:tab algn="l" pos="6512040"/>
                      <a:tab algn="l" pos="7442280"/>
                      <a:tab algn="l" pos="8372520"/>
                      <a:tab algn="l" pos="9302760"/>
                      <a:tab algn="l" pos="10233000"/>
                    </a:tabLst>
                  </a:pPr>
                  <a:r>
                    <a:rPr b="1" i="1" lang="en-US" sz="1300" spc="-1" strike="noStrike">
                      <a:solidFill>
                        <a:srgbClr val="a90000"/>
                      </a:solidFill>
                      <a:latin typeface="Times New Roman"/>
                    </a:rPr>
                    <a:t>Opaque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"/>
                <p:cNvGrpSpPr/>
                <p:nvPr/>
              </p:nvGrpSpPr>
              <p:grpSpPr>
                <a:xfrm>
                  <a:off x="5448600" y="3173400"/>
                  <a:ext cx="128160" cy="213120"/>
                  <a:chOff x="5448600" y="3173400"/>
                  <a:chExt cx="128160" cy="21312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>
                    <a:off x="5448600" y="3173400"/>
                    <a:ext cx="128160" cy="1522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7992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5514120" y="3330000"/>
                    <a:ext cx="2520" cy="565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7992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5761080" y="3173400"/>
                  <a:ext cx="128520" cy="766440"/>
                  <a:chOff x="5761080" y="3173400"/>
                  <a:chExt cx="128520" cy="76644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>
                    <a:off x="5761080" y="3173400"/>
                    <a:ext cx="128520" cy="1526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7992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5828400" y="3330360"/>
                    <a:ext cx="1080" cy="6094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7992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6075000" y="3173400"/>
                  <a:ext cx="128520" cy="1312200"/>
                  <a:chOff x="6075000" y="3173400"/>
                  <a:chExt cx="128520" cy="131220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>
                    <a:off x="6075000" y="3173400"/>
                    <a:ext cx="128520" cy="1526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7992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6141600" y="3330360"/>
                    <a:ext cx="1080" cy="11552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7992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6388560" y="3173400"/>
                  <a:ext cx="128520" cy="1870920"/>
                  <a:chOff x="6388560" y="3173400"/>
                  <a:chExt cx="128520" cy="187092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>
                    <a:off x="6388560" y="3173400"/>
                    <a:ext cx="128520" cy="1526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7992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6455160" y="3330360"/>
                    <a:ext cx="1080" cy="17139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7992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7" name=""/>
              <p:cNvGrpSpPr/>
              <p:nvPr/>
            </p:nvGrpSpPr>
            <p:grpSpPr>
              <a:xfrm>
                <a:off x="7080480" y="2250720"/>
                <a:ext cx="126720" cy="312120"/>
                <a:chOff x="7080480" y="2250720"/>
                <a:chExt cx="126720" cy="31212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080480" y="2250720"/>
                  <a:ext cx="126720" cy="152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7992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147080" y="2407320"/>
                  <a:ext cx="1080" cy="155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7992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0" name=""/>
            <p:cNvSpPr/>
            <p:nvPr/>
          </p:nvSpPr>
          <p:spPr>
            <a:xfrm>
              <a:off x="2119320" y="2063880"/>
              <a:ext cx="0" cy="39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3031560" y="2584440"/>
              <a:ext cx="152280" cy="165240"/>
            </a:xfrm>
            <a:prstGeom prst="diamond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2492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179880" y="2666880"/>
              <a:ext cx="1709640" cy="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2492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43000" y="2293920"/>
              <a:ext cx="154080" cy="169920"/>
            </a:xfrm>
            <a:prstGeom prst="diamond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2492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tCDF-4 classic-model: a transitional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07960" y="5308560"/>
            <a:ext cx="2806920" cy="1219320"/>
          </a:xfrm>
          <a:prstGeom prst="rect">
            <a:avLst/>
          </a:prstGeom>
          <a:solidFill>
            <a:srgbClr val="e4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CDF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07960" y="3467160"/>
            <a:ext cx="2806920" cy="1219320"/>
          </a:xfrm>
          <a:prstGeom prst="rect">
            <a:avLst/>
          </a:prstGeom>
          <a:solidFill>
            <a:srgbClr val="f3d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CDF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7960" y="1612800"/>
            <a:ext cx="2806920" cy="1219320"/>
          </a:xfrm>
          <a:prstGeom prst="rect">
            <a:avLst/>
          </a:prstGeom>
          <a:solidFill>
            <a:srgbClr val="e4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CDF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11760" y="5359320"/>
            <a:ext cx="454644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tible with existing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st data model and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11760" y="1571760"/>
            <a:ext cx="4546440" cy="13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compatible with some existing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data model and API, more complex, power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11760" y="3352680"/>
            <a:ext cx="488952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classic API for compat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netCDF-4/HDF5 storage for compression, chunking,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use, just recompile, re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ther ways netCDF supports data durabilit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 Conventions add earth-science specific semantics to low-level data model, without changing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netCDF reads multiple data formats through an abstract Common Data Model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F4, HDF5, HDF-EOS, GRIB1, GRIB2, BUFR, GEMPAK, GINI, DMSP, NEXRAD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ML wrappers support efficient addition of new metadata, virtual aggre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” attribute for provenance automatically maintained by utilities like 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ヒラギノ角ゴ ProN W3"/>
              </a:rPr>
              <a:t>_x0018_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cluding</a:t>
            </a:r>
            <a:r>
              <a:rPr b="0" lang="en-US" sz="2800" spc="-1" strike="noStrike">
                <a:solidFill>
                  <a:srgbClr val="333399"/>
                </a:solidFill>
                <a:latin typeface="ヒラギノ角ゴ ProN W3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mark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 obsolescence need not be an issue for data du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olve data models by extension, not by incompatible mod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rve previous programming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previous format variants transpar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gratuitous invention of new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preservation and stewardship requires much more than dealing with format 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ic fail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al failu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or or administrative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r preserving data, is format obsolescence a non-issue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formats (and their access software) chan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format changes consistent with data preservation and stewardshi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the evolution of formats support preservation and stewardshi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rinciples should guide format developers in support of data dura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most important threats to netCDF data in archi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y do open formats and their supporting software libraries change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201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tter represent data 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turing intent of data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iting metadata advances, new conven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mprove performance, avoid obsol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ssion, caching, chunking, indexing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fil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hance interop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ing specialized formats with more general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fix mist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-bit offsets for data in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CII characters for all meta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spond to users’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ow do formats change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581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formats don’t change, they’re defined once and frozen for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3276720"/>
            <a:ext cx="3581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ormats change infrequently and usually incompati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4800600"/>
            <a:ext cx="3505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formats (and their software) may evolve in lots of small inc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419720" y="4431960"/>
            <a:ext cx="4406400" cy="2121120"/>
            <a:chOff x="4419720" y="4431960"/>
            <a:chExt cx="4406400" cy="2121120"/>
          </a:xfrm>
        </p:grpSpPr>
        <p:grpSp>
          <p:nvGrpSpPr>
            <p:cNvPr id="61" name=""/>
            <p:cNvGrpSpPr/>
            <p:nvPr/>
          </p:nvGrpSpPr>
          <p:grpSpPr>
            <a:xfrm>
              <a:off x="4419720" y="5841720"/>
              <a:ext cx="1487160" cy="711360"/>
              <a:chOff x="4419720" y="5841720"/>
              <a:chExt cx="1487160" cy="71136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4419720" y="6184440"/>
                <a:ext cx="750600" cy="368640"/>
                <a:chOff x="4419720" y="6184440"/>
                <a:chExt cx="750600" cy="36864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4968720" y="6362640"/>
                  <a:ext cx="201600" cy="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flipV="1">
                  <a:off x="5160960" y="6184440"/>
                  <a:ext cx="0" cy="17172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4419720" y="6534000"/>
                  <a:ext cx="277560" cy="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4697280" y="6362640"/>
                  <a:ext cx="277920" cy="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flipV="1">
                  <a:off x="4697280" y="6356520"/>
                  <a:ext cx="0" cy="19656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5156280" y="5841720"/>
                <a:ext cx="750600" cy="368640"/>
                <a:chOff x="5156280" y="5841720"/>
                <a:chExt cx="750600" cy="36864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5705280" y="6019920"/>
                  <a:ext cx="201600" cy="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flipV="1">
                  <a:off x="5897520" y="5841720"/>
                  <a:ext cx="0" cy="17172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5156280" y="6191280"/>
                  <a:ext cx="277560" cy="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433840" y="6019920"/>
                  <a:ext cx="277920" cy="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 flipV="1">
                  <a:off x="5433840" y="6013800"/>
                  <a:ext cx="0" cy="19656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" name=""/>
            <p:cNvGrpSpPr/>
            <p:nvPr/>
          </p:nvGrpSpPr>
          <p:grpSpPr>
            <a:xfrm>
              <a:off x="5880240" y="5143320"/>
              <a:ext cx="1487160" cy="711360"/>
              <a:chOff x="5880240" y="5143320"/>
              <a:chExt cx="1487160" cy="71136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5880240" y="5486040"/>
                <a:ext cx="750600" cy="368640"/>
                <a:chOff x="5880240" y="5486040"/>
                <a:chExt cx="750600" cy="36864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6429240" y="5664240"/>
                  <a:ext cx="201600" cy="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V="1">
                  <a:off x="6621480" y="5486040"/>
                  <a:ext cx="0" cy="17172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880240" y="5835600"/>
                  <a:ext cx="277560" cy="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6157800" y="5664240"/>
                  <a:ext cx="277920" cy="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flipV="1">
                  <a:off x="6157800" y="5658120"/>
                  <a:ext cx="0" cy="19656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6616800" y="5143320"/>
                <a:ext cx="750600" cy="368640"/>
                <a:chOff x="6616800" y="5143320"/>
                <a:chExt cx="750600" cy="36864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7165800" y="5321520"/>
                  <a:ext cx="201600" cy="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flipV="1">
                  <a:off x="7358040" y="5143320"/>
                  <a:ext cx="0" cy="17172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616800" y="5492880"/>
                  <a:ext cx="277560" cy="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6894360" y="5321520"/>
                  <a:ext cx="277920" cy="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flipV="1">
                  <a:off x="6894360" y="5315400"/>
                  <a:ext cx="0" cy="19656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7" name=""/>
            <p:cNvGrpSpPr/>
            <p:nvPr/>
          </p:nvGrpSpPr>
          <p:grpSpPr>
            <a:xfrm>
              <a:off x="7338960" y="4431960"/>
              <a:ext cx="1487160" cy="711360"/>
              <a:chOff x="7338960" y="4431960"/>
              <a:chExt cx="1487160" cy="711360"/>
            </a:xfrm>
          </p:grpSpPr>
          <p:grpSp>
            <p:nvGrpSpPr>
              <p:cNvPr id="88" name=""/>
              <p:cNvGrpSpPr/>
              <p:nvPr/>
            </p:nvGrpSpPr>
            <p:grpSpPr>
              <a:xfrm>
                <a:off x="7338960" y="4774680"/>
                <a:ext cx="750600" cy="368640"/>
                <a:chOff x="7338960" y="4774680"/>
                <a:chExt cx="750600" cy="36864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7887960" y="4952880"/>
                  <a:ext cx="201600" cy="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flipV="1">
                  <a:off x="8080200" y="4774680"/>
                  <a:ext cx="0" cy="17172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7338960" y="5124240"/>
                  <a:ext cx="277560" cy="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616520" y="4952880"/>
                  <a:ext cx="277920" cy="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V="1">
                  <a:off x="7616520" y="4946760"/>
                  <a:ext cx="0" cy="19656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8075520" y="4431960"/>
                <a:ext cx="750600" cy="368640"/>
                <a:chOff x="8075520" y="4431960"/>
                <a:chExt cx="750600" cy="36864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8624520" y="4610160"/>
                  <a:ext cx="201600" cy="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V="1">
                  <a:off x="8816760" y="4431960"/>
                  <a:ext cx="0" cy="17172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8075520" y="4781520"/>
                  <a:ext cx="277560" cy="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8353080" y="4610160"/>
                  <a:ext cx="277920" cy="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flipV="1">
                  <a:off x="8353080" y="4604040"/>
                  <a:ext cx="0" cy="19656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0" name=""/>
          <p:cNvGrpSpPr/>
          <p:nvPr/>
        </p:nvGrpSpPr>
        <p:grpSpPr>
          <a:xfrm>
            <a:off x="4419720" y="1689120"/>
            <a:ext cx="4419360" cy="1065960"/>
            <a:chOff x="4419720" y="1689120"/>
            <a:chExt cx="4419360" cy="1065960"/>
          </a:xfrm>
        </p:grpSpPr>
        <p:sp>
          <p:nvSpPr>
            <p:cNvPr id="101" name=""/>
            <p:cNvSpPr/>
            <p:nvPr/>
          </p:nvSpPr>
          <p:spPr>
            <a:xfrm>
              <a:off x="4419720" y="2736720"/>
              <a:ext cx="2209680" cy="0"/>
            </a:xfrm>
            <a:prstGeom prst="line">
              <a:avLst/>
            </a:prstGeom>
            <a:ln w="38160">
              <a:solidFill>
                <a:srgbClr val="9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2057040"/>
              <a:ext cx="2209680" cy="0"/>
            </a:xfrm>
            <a:prstGeom prst="line">
              <a:avLst/>
            </a:prstGeom>
            <a:ln w="38160">
              <a:solidFill>
                <a:srgbClr val="9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629400" y="2050560"/>
              <a:ext cx="0" cy="704520"/>
            </a:xfrm>
            <a:prstGeom prst="line">
              <a:avLst/>
            </a:prstGeom>
            <a:ln w="38160">
              <a:solidFill>
                <a:srgbClr val="9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77400" y="1689120"/>
              <a:ext cx="84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SC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343400" y="3040200"/>
            <a:ext cx="4471920" cy="1411200"/>
            <a:chOff x="4343400" y="3040200"/>
            <a:chExt cx="4471920" cy="1411200"/>
          </a:xfrm>
        </p:grpSpPr>
        <p:grpSp>
          <p:nvGrpSpPr>
            <p:cNvPr id="106" name=""/>
            <p:cNvGrpSpPr/>
            <p:nvPr/>
          </p:nvGrpSpPr>
          <p:grpSpPr>
            <a:xfrm>
              <a:off x="4343400" y="3498840"/>
              <a:ext cx="4406400" cy="952560"/>
              <a:chOff x="4343400" y="3498840"/>
              <a:chExt cx="4406400" cy="95256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6889680" y="3498840"/>
                <a:ext cx="1860120" cy="457200"/>
                <a:chOff x="6889680" y="3498840"/>
                <a:chExt cx="1860120" cy="45720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889680" y="3936960"/>
                  <a:ext cx="930240" cy="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819920" y="3505320"/>
                  <a:ext cx="929880" cy="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V="1">
                  <a:off x="7819920" y="3498840"/>
                  <a:ext cx="0" cy="457200"/>
                </a:xfrm>
                <a:prstGeom prst="line">
                  <a:avLst/>
                </a:prstGeom>
                <a:ln w="38160">
                  <a:solidFill>
                    <a:srgbClr val="9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" name=""/>
              <p:cNvSpPr/>
              <p:nvPr/>
            </p:nvSpPr>
            <p:spPr>
              <a:xfrm>
                <a:off x="4343400" y="4432320"/>
                <a:ext cx="1279440" cy="0"/>
              </a:xfrm>
              <a:prstGeom prst="line">
                <a:avLst/>
              </a:prstGeom>
              <a:ln w="38160">
                <a:solidFill>
                  <a:srgbClr val="9a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622840" y="3936960"/>
                <a:ext cx="1279440" cy="0"/>
              </a:xfrm>
              <a:prstGeom prst="line">
                <a:avLst/>
              </a:prstGeom>
              <a:ln w="38160">
                <a:solidFill>
                  <a:srgbClr val="9a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622840" y="3930840"/>
                <a:ext cx="0" cy="520560"/>
              </a:xfrm>
              <a:prstGeom prst="line">
                <a:avLst/>
              </a:prstGeom>
              <a:ln w="38160">
                <a:solidFill>
                  <a:srgbClr val="9a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159240" y="3498840"/>
              <a:ext cx="101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RIB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800840" y="3040200"/>
              <a:ext cx="101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RIB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750920" y="63626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9640" y="568944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4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48400" y="462276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89720" y="513072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6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24600" y="584208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C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tCDF: not just a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98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form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platform-independent data (NASA ESDS-RFC-0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-netCDF is being proposed as a formal OGC binary encoding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3822840"/>
            <a:ext cx="7772400" cy="22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multidimensional and structured scientific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of application programming interfa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, Java, Fortran, C++, …) for data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the AP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162240"/>
            <a:ext cx="57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ut netCDF is a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06440" y="304920"/>
            <a:ext cx="114300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ow has netCDF changed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33520" y="868320"/>
          <a:ext cx="8153280" cy="5627880"/>
        </p:xfrm>
        <a:graphic>
          <a:graphicData uri="http://schemas.openxmlformats.org/drawingml/2006/table">
            <a:tbl>
              <a:tblPr/>
              <a:tblGrid>
                <a:gridCol w="1309680"/>
                <a:gridCol w="1384200"/>
                <a:gridCol w="5459400"/>
              </a:tblGrid>
              <a:tr h="56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oft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orm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eat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: 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CDF-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-bit offs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DAP client support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ion/inclusion of udunits and libcf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d HDF5 and HDF4 sup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: 4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CDF-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-bit offs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hanced data model, expanded APIs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DF5 storage layer, compression, chunking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llel I/O, Unicode names, 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: 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-bit offs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ML, 64-bit offset for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: 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Java API,  Fortran-90 A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: 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va API, limited large file support, performance enhance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: 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F77 “version 3” type-safe AP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: 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++ API, optimizations, format spec publish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9: 1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F77 AP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ays to deal with format chang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nly published standards for arch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 standardization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IB1 (1985) to GRIB2 (20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actical if many intermediate versions (e.g CF Conventions 1.0, 1.1, 1.2, 1.3, 1.4, 1.5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archived data period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grading older formats is costly, ri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ng to a more general format may break older access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data access software versions with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data archives to become software version control reposi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ses often unnecessary burden on data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y on a commitment to compatibility by format developers, maintainers, and responsible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atibility commitmen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cientific data, preserving access to data for future generations should be </a:t>
            </a:r>
            <a:r>
              <a:rPr b="0" lang="en-US" sz="2400" spc="-1" strike="noStrike">
                <a:solidFill>
                  <a:srgbClr val="9a0000"/>
                </a:solidFill>
                <a:latin typeface="Lucida Blackletter"/>
              </a:rPr>
              <a:t>sacrosa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commitment is needed to ensure practical access to old data by new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 library evolution can ensure data and API compa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xample public commitment presented at American Meteorological Society annual meeting, January 2006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5440" cy="685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 anchorCtr="1">
            <a:noAutofit/>
          </a:bodyPr>
          <a:p>
            <a:pPr algn="ctr">
              <a:lnSpc>
                <a:spcPct val="91000"/>
              </a:lnSpc>
              <a:tabLst>
                <a:tab algn="l" pos="0"/>
                <a:tab algn="l" pos="414360"/>
                <a:tab algn="l" pos="830160"/>
                <a:tab algn="l" pos="1244520"/>
                <a:tab algn="l" pos="1658880"/>
                <a:tab algn="l" pos="2073240"/>
                <a:tab algn="l" pos="2489040"/>
                <a:tab algn="l" pos="2903400"/>
                <a:tab algn="l" pos="3317760"/>
                <a:tab algn="l" pos="3732120"/>
                <a:tab algn="l" pos="4148280"/>
                <a:tab algn="l" pos="4562640"/>
                <a:tab algn="l" pos="4976640"/>
                <a:tab algn="l" pos="5392800"/>
                <a:tab algn="l" pos="5807160"/>
                <a:tab algn="l" pos="6221520"/>
                <a:tab algn="l" pos="6635880"/>
                <a:tab algn="l" pos="7051680"/>
                <a:tab algn="l" pos="7466040"/>
                <a:tab algn="l" pos="7880400"/>
                <a:tab algn="l" pos="8294760"/>
                <a:tab algn="l" pos="853740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DejaVu Sans Condensed"/>
                <a:ea typeface="DejaVu San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838080"/>
            <a:ext cx="7467840" cy="5184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marL="171360" algn="ctr">
              <a:lnSpc>
                <a:spcPct val="124000"/>
              </a:lnSpc>
              <a:tabLst>
                <a:tab algn="l" pos="0"/>
                <a:tab algn="l" pos="171360"/>
                <a:tab algn="l" pos="414360"/>
                <a:tab algn="l" pos="830160"/>
                <a:tab algn="l" pos="1244520"/>
                <a:tab algn="l" pos="1658880"/>
                <a:tab algn="l" pos="2073240"/>
                <a:tab algn="l" pos="2489040"/>
                <a:tab algn="l" pos="2903400"/>
                <a:tab algn="l" pos="3317760"/>
                <a:tab algn="l" pos="3732120"/>
                <a:tab algn="l" pos="4148280"/>
                <a:tab algn="l" pos="4562640"/>
                <a:tab algn="l" pos="4976640"/>
                <a:tab algn="l" pos="5392800"/>
                <a:tab algn="l" pos="5807160"/>
                <a:tab algn="l" pos="6221520"/>
                <a:tab algn="l" pos="6635880"/>
                <a:tab algn="l" pos="7051680"/>
                <a:tab algn="l" pos="746604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1360" algn="ctr">
              <a:lnSpc>
                <a:spcPct val="124000"/>
              </a:lnSpc>
              <a:tabLst>
                <a:tab algn="l" pos="0"/>
                <a:tab algn="l" pos="171360"/>
                <a:tab algn="l" pos="414360"/>
                <a:tab algn="l" pos="830160"/>
                <a:tab algn="l" pos="1244520"/>
                <a:tab algn="l" pos="1658880"/>
                <a:tab algn="l" pos="2073240"/>
                <a:tab algn="l" pos="2489040"/>
                <a:tab algn="l" pos="2903400"/>
                <a:tab algn="l" pos="3317760"/>
                <a:tab algn="l" pos="3732120"/>
                <a:tab algn="l" pos="4148280"/>
                <a:tab algn="l" pos="4562640"/>
                <a:tab algn="l" pos="4976640"/>
                <a:tab algn="l" pos="5392800"/>
                <a:tab algn="l" pos="5807160"/>
                <a:tab algn="l" pos="6221520"/>
                <a:tab algn="l" pos="6635880"/>
                <a:tab algn="l" pos="7051680"/>
                <a:tab algn="l" pos="746604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>
              <a:lnSpc>
                <a:spcPct val="121000"/>
              </a:lnSpc>
              <a:tabLst>
                <a:tab algn="l" pos="0"/>
                <a:tab algn="l" pos="171360"/>
                <a:tab algn="l" pos="414360"/>
                <a:tab algn="l" pos="830160"/>
                <a:tab algn="l" pos="1244520"/>
                <a:tab algn="l" pos="1658880"/>
                <a:tab algn="l" pos="2073240"/>
                <a:tab algn="l" pos="2489040"/>
                <a:tab algn="l" pos="2903400"/>
                <a:tab algn="l" pos="3317760"/>
                <a:tab algn="l" pos="3732120"/>
                <a:tab algn="l" pos="4148280"/>
                <a:tab algn="l" pos="4562640"/>
                <a:tab algn="l" pos="4976640"/>
                <a:tab algn="l" pos="5392800"/>
                <a:tab algn="l" pos="5807160"/>
                <a:tab algn="l" pos="6221520"/>
                <a:tab algn="l" pos="6635880"/>
                <a:tab algn="l" pos="7051680"/>
                <a:tab algn="l" pos="746604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2000" spc="-1" strike="noStrike">
                <a:solidFill>
                  <a:srgbClr val="23069a"/>
                </a:solidFill>
                <a:latin typeface="Century Schoolbook L"/>
                <a:ea typeface="ZVZQIU+LucidaBlackletter"/>
              </a:rPr>
              <a:t>For future access to archives, netCDF development will continue to ensure the compatibility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77840">
              <a:lnSpc>
                <a:spcPct val="121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1360"/>
                <a:tab algn="l" pos="414360"/>
                <a:tab algn="l" pos="830160"/>
                <a:tab algn="l" pos="1244520"/>
                <a:tab algn="l" pos="1658880"/>
                <a:tab algn="l" pos="2073240"/>
                <a:tab algn="l" pos="2489040"/>
                <a:tab algn="l" pos="2903400"/>
                <a:tab algn="l" pos="3317760"/>
                <a:tab algn="l" pos="3732120"/>
                <a:tab algn="l" pos="4148280"/>
                <a:tab algn="l" pos="4562640"/>
                <a:tab algn="l" pos="4976640"/>
                <a:tab algn="l" pos="5392800"/>
                <a:tab algn="l" pos="5807160"/>
                <a:tab algn="l" pos="6221520"/>
                <a:tab algn="l" pos="6635880"/>
                <a:tab algn="l" pos="7051680"/>
                <a:tab algn="l" pos="746604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2000" spc="-1" strike="noStrike">
                <a:solidFill>
                  <a:srgbClr val="280099"/>
                </a:solidFill>
                <a:latin typeface="Arial"/>
                <a:ea typeface="XUEQLN+ComicSansMS"/>
              </a:rPr>
              <a:t>Data access:</a:t>
            </a:r>
            <a:r>
              <a:rPr b="0" lang="en-GB" sz="2000" spc="-1" strike="noStrike">
                <a:solidFill>
                  <a:srgbClr val="280099"/>
                </a:solidFill>
                <a:latin typeface="Arial"/>
                <a:ea typeface="XUEQLN+ComicSansMS"/>
              </a:rPr>
              <a:t>  netCDF software will provide both read and write access to </a:t>
            </a:r>
            <a:r>
              <a:rPr b="0" lang="en-GB" sz="2000" spc="-1" strike="noStrike">
                <a:solidFill>
                  <a:srgbClr val="280099"/>
                </a:solidFill>
                <a:latin typeface="Arial"/>
                <a:ea typeface="VZKFTS+ComicSansMS-Bold"/>
              </a:rPr>
              <a:t>all </a:t>
            </a:r>
            <a:r>
              <a:rPr b="0" lang="en-GB" sz="2000" spc="-1" strike="noStrike">
                <a:solidFill>
                  <a:srgbClr val="280099"/>
                </a:solidFill>
                <a:latin typeface="Arial"/>
                <a:ea typeface="XUEQLN+ComicSansMS"/>
              </a:rPr>
              <a:t>earlier forms of netCDF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77840">
              <a:lnSpc>
                <a:spcPct val="121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1360"/>
                <a:tab algn="l" pos="414360"/>
                <a:tab algn="l" pos="830160"/>
                <a:tab algn="l" pos="1244520"/>
                <a:tab algn="l" pos="1658880"/>
                <a:tab algn="l" pos="2073240"/>
                <a:tab algn="l" pos="2489040"/>
                <a:tab algn="l" pos="2903400"/>
                <a:tab algn="l" pos="3317760"/>
                <a:tab algn="l" pos="3732120"/>
                <a:tab algn="l" pos="4148280"/>
                <a:tab algn="l" pos="4562640"/>
                <a:tab algn="l" pos="4976640"/>
                <a:tab algn="l" pos="5392800"/>
                <a:tab algn="l" pos="5807160"/>
                <a:tab algn="l" pos="6221520"/>
                <a:tab algn="l" pos="6635880"/>
                <a:tab algn="l" pos="7051680"/>
                <a:tab algn="l" pos="746604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2000" spc="-1" strike="noStrike">
                <a:solidFill>
                  <a:srgbClr val="280099"/>
                </a:solidFill>
                <a:latin typeface="Arial"/>
                <a:ea typeface="XUEQLN+ComicSansMS"/>
              </a:rPr>
              <a:t>Programming interfaces:</a:t>
            </a:r>
            <a:r>
              <a:rPr b="0" lang="en-GB" sz="2000" spc="-1" strike="noStrike">
                <a:solidFill>
                  <a:srgbClr val="280099"/>
                </a:solidFill>
                <a:latin typeface="Arial"/>
                <a:ea typeface="XUEQLN+ComicSansMS"/>
              </a:rPr>
              <a:t> C, Fortran, and Java programs using documented netCDF APIs from previous versions will continue to work after recompiling and relinking (if neede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77840">
              <a:lnSpc>
                <a:spcPct val="121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1360"/>
                <a:tab algn="l" pos="414360"/>
                <a:tab algn="l" pos="830160"/>
                <a:tab algn="l" pos="1244520"/>
                <a:tab algn="l" pos="1658880"/>
                <a:tab algn="l" pos="2073240"/>
                <a:tab algn="l" pos="2489040"/>
                <a:tab algn="l" pos="2903400"/>
                <a:tab algn="l" pos="3317760"/>
                <a:tab algn="l" pos="3732120"/>
                <a:tab algn="l" pos="4148280"/>
                <a:tab algn="l" pos="4562640"/>
                <a:tab algn="l" pos="4976640"/>
                <a:tab algn="l" pos="5392800"/>
                <a:tab algn="l" pos="5807160"/>
                <a:tab algn="l" pos="6221520"/>
                <a:tab algn="l" pos="6635880"/>
                <a:tab algn="l" pos="7051680"/>
                <a:tab algn="l" pos="746604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2000" spc="-1" strike="noStrike">
                <a:solidFill>
                  <a:srgbClr val="280099"/>
                </a:solidFill>
                <a:latin typeface="Arial"/>
                <a:ea typeface="XUEQLN+ComicSansMS"/>
              </a:rPr>
              <a:t>Future versions:</a:t>
            </a:r>
            <a:r>
              <a:rPr b="0" lang="en-GB" sz="2000" spc="-1" strike="noStrike">
                <a:solidFill>
                  <a:srgbClr val="280099"/>
                </a:solidFill>
                <a:latin typeface="Arial"/>
                <a:ea typeface="XUEQLN+ComicSansMS"/>
              </a:rPr>
              <a:t> netCDF will continue to support both data access compatibility and API compatibility in future rele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7472520" y="530064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010240" y="990720"/>
            <a:ext cx="512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Arial"/>
              </a:rPr>
              <a:t>Declaration of Compat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3T16:16:56Z</dcterms:created>
  <dc:creator>Russ Rew</dc:creator>
  <dc:description/>
  <dc:language>en-US</dc:language>
  <cp:lastModifiedBy>Russ Rew</cp:lastModifiedBy>
  <cp:lastPrinted>2009-07-03T17:33:37Z</cp:lastPrinted>
  <dcterms:modified xsi:type="dcterms:W3CDTF">2009-07-09T15:47:47Z</dcterms:modified>
  <cp:revision>100</cp:revision>
  <dc:subject/>
  <dc:title>Data preservation, stewardship, and netCDF:</dc:title>
</cp:coreProperties>
</file>